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gif" ContentType="image/gi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84711-CD81-40D5-A664-208FEBC42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E8D6C-163E-4843-83FF-9A4B77798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CE0B7-3B80-4AA0-855C-E76110FDD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DAF24-F387-4699-8028-B50EF3D97E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D06E9-A77C-46F9-9612-C0631B101D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CD9CF-2E02-45C7-8664-9E646E3117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12581-43F2-4532-92FC-56BDFCEE2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FE1BA-D2D4-449C-B634-D26AF3E9E1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71A73-4378-4C16-ADBF-2D5286589F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2617-6196-49AF-AA78-88FC6F6AD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EC7E3-4682-47AF-B9DD-C4B2A0B71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D27A-60EF-4BAC-9BC7-48192FAA19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B5F41-1CB3-4160-A7A4-E8169E755F14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4" name="WordArt 5"/>
          <p:cNvSpPr txBox="1"/>
          <p:nvPr/>
        </p:nvSpPr>
        <p:spPr>
          <a:xfrm>
            <a:off x="611280" y="549360"/>
            <a:ext cx="8281800" cy="4967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12 октябр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Тема урока: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Мир звезд.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звездия.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0" y="260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2000"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1 (на отметку «3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1. Что такое звезд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2. Какая звезда самая близкая к Земле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3. Как различаются звезды по цвету и яркост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4. Что такое созвездия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 2. (на отметку «4»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Заполните схему       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Звезд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то означают эти цифры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88, 15 000 000</a:t>
            </a:r>
            <a:r>
              <a:rPr b="0" lang="ru-RU" sz="2400" spc="-1" strike="noStrike" baseline="30000">
                <a:solidFill>
                  <a:srgbClr val="000000"/>
                </a:solidFill>
                <a:latin typeface="Arial"/>
              </a:rPr>
              <a:t>0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6000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Часть 3. (на отметку «5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риготовить рассказ о звездах и созвездиях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4"/>
          <p:cNvSpPr/>
          <p:nvPr/>
        </p:nvSpPr>
        <p:spPr>
          <a:xfrm flipH="1">
            <a:off x="1042920" y="3213000"/>
            <a:ext cx="23767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Line 4"/>
          <p:cNvSpPr/>
          <p:nvPr/>
        </p:nvSpPr>
        <p:spPr>
          <a:xfrm>
            <a:off x="4211640" y="3328920"/>
            <a:ext cx="0" cy="39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Line 4"/>
          <p:cNvSpPr/>
          <p:nvPr/>
        </p:nvSpPr>
        <p:spPr>
          <a:xfrm>
            <a:off x="4716360" y="3213000"/>
            <a:ext cx="266400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br>
              <a:rPr sz="4400"/>
            </a:b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стр. 34-35 прочитать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ыполнить практическую работу стр 38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Rectangle 10"/>
          <p:cNvSpPr/>
          <p:nvPr/>
        </p:nvSpPr>
        <p:spPr>
          <a:xfrm>
            <a:off x="349200" y="421920"/>
            <a:ext cx="180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800"/>
            </a:b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01T08:35:56Z</dcterms:created>
  <dc:creator>XTreme</dc:creator>
  <dc:description/>
  <dc:language>en-US</dc:language>
  <cp:lastModifiedBy>Авхадиева</cp:lastModifiedBy>
  <dcterms:modified xsi:type="dcterms:W3CDTF">2012-10-13T06:16:44Z</dcterms:modified>
  <cp:revision>27</cp:revision>
  <dc:subject/>
  <dc:title>Слайд 1</dc:title>
</cp:coreProperties>
</file>